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BC9-E1AC-4390-BD15-8BAE12F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767-4D5B-4552-9E73-443061B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3BF-777C-4A96-B5F0-F98A2972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7E0-EC9D-4D39-B4DD-9133A694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8B73-D14E-4856-9216-D9D1437A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FBB-0801-4DD2-A9DE-67F3ABB5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899-1929-4679-A61D-C0D7FB5C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3421-E3C4-44EB-B0E8-53027734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DE19-770B-42FA-A505-9D556F4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97B3-44D0-4F5C-A1A9-3AE9182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7811-4A5A-4992-A602-235CDF7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B24-3C5A-454F-AE06-178C49DA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7738-5EC0-4B2A-A0B8-205609F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7986-8145-473F-8220-D2F9D55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589A-9678-4615-A5BE-84435C2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E6CD-C2C6-47C3-BB85-8943ADA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372E-9067-463A-95E6-B5B6BC1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271-70F9-41BB-8580-BEBC1ED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859-DC1B-4AC3-B0E0-32405B5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AD3-FA6E-405F-91E4-FE0313B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B3F-3F20-421F-824F-C5BAD33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F51-5F45-4E49-A872-F4AA671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6E5-A0A2-4FD7-BDDA-F49AC75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7BF-9D6F-4927-BB67-D54DE96B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5601-E93E-4C91-8466-B104EA25D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FE4-D65D-4080-A882-7613B5043E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88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Decision-Oriented Evaluation Approaches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, Emily, Jen &amp; M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is the Personal Facto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Patton it i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of “one or more stakeholders who care about the evaluation and are in a position to use it” (p 17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e of an identifiable individual or group of people who personally care about the valuation and the findings it generates” (p 17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element of Utilization-Focused Evaluation (U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key factors of UF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the intended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nterest in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ower in program to be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 – both would be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terest is more important tha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key factors of UF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  Involving primary users in the conduct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o identify focus of study, how to use info obtained, design of study, and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they have a thorough understanding of the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  Involve primary users in interpreting results and making decisions about judgments, recommendations, and 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dvantages of Decision-Oriented Evalu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st and still frequently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being written about and used as guides to design individual evaluations or evaluation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various 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s of development, personal factor, consider ongoing inform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that helps people make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isadvantages of Decision-Oriented Evalu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cus on deci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end to neglect stakeholders with less 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 not address social equity and 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cus on managers and their information nee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or can become the manager’s “hired gu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ccasionally, the evaluator can not respond to critical issues if they do not match the issues of the decision mak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sume that the important decisions and information to make them can be clearly defined in advance and the program will remain stable while the evaluation is condu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strengths and limitations of individual approaches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2666880"/>
          <a:ext cx="8229600" cy="36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 standing 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s people make decisions quick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-making is left to one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er to get stakeholders to buy-in because they do not play a part in the 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y did decision-oriented  evaluation approaches emerg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-oriented evaluations emerged in the 197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 fact that the evaluations were being ignored and had no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s wanted to help people who make decisions actual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IPP Progra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P Program is the concept Mr. Stuffle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taying evaluation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’s most important purpose is not to prove but to improve” pg. 1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Values - ideals held by a society that must be taken into consideration pg. 1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. I. P. P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- Contex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is the desired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- Inpu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are you going to implement the pro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- Process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can you improve/modify the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- Produc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d it work?  Wha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P uses both formative and summativ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0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br>
              <a:rPr sz="4000"/>
            </a:br>
            <a:r>
              <a:rPr b="0" lang="en-US" sz="2200" spc="-1" strike="noStrike">
                <a:solidFill>
                  <a:srgbClr val="420000"/>
                </a:solidFill>
                <a:latin typeface="Times New Roman"/>
              </a:rPr>
              <a:t>(p. 174-176)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ing th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major levels of decision ma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level, project the decision situations to be served and describe each one in terms of locus, focus, criticality, timing, and composition of altern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criteria for each decision situation by identifying variables to aide in judging altern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olicies the evaluator must operate with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nd methods of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and schedule for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 a format for the collected infor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signate a means for performing the analys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analytical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 a means for performing th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ing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aud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means for providing th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 re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of th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the evaluation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taff and resource requirements and plans for meeting those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potential for providing information that is valid, reliable, credible, timely, and perva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nd schedule the means for periodic upd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budg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w can decision-oriented evaluation help at each stag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s are advantageous to the user because it forces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s must think of evaluation as cycl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formative assessment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0:26:23Z</dcterms:created>
  <dc:creator>West Shore  School District</dc:creator>
  <dc:description/>
  <dc:language>en-US</dc:language>
  <cp:lastModifiedBy>Elementary/Secondary Schools</cp:lastModifiedBy>
  <dcterms:modified xsi:type="dcterms:W3CDTF">2011-02-15T18:10:14Z</dcterms:modified>
  <cp:revision>16</cp:revision>
  <dc:subject/>
  <dc:title>Slides for Marie!!</dc:title>
</cp:coreProperties>
</file>